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F8D277-E698-4A1D-B8DC-D471CE4C46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A93D0-7DFE-4D66-B4C7-FF2C95B00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562D47-901F-4432-9AE3-903FA3B7EC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A69A0D-74FC-49DB-AD5D-1F3C269F60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B5AE8D-6A0E-4695-B259-A9DB10A6EA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6372EA-B77E-4AF3-A1CB-9BBE651663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C61212-304D-420E-8E44-39D753DBFA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E08345-E854-4FC2-B8C7-B9B3DD1C31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4BB43D-8F2B-40DE-9A16-C721C7FC88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910428-C88E-4660-A325-56CD8BD108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556107-8A39-40A0-9CF1-2A1E873C43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8D2C0-9535-4C7B-9889-B22AB7A9C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4EC655-9931-4BA4-9E92-EDADAB6EA1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EBDB24-2E5D-48A8-A0D7-A0967E97DB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0B1EB1-97D4-4571-B178-C9C19631AA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71C547-7D46-4FA9-A224-366620ACB0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1989C2-A741-4A55-9DBD-E00DAA57F0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94580-3AEB-48FE-B13E-2B951DA9E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F1E7D-4327-412F-A147-42F7D1905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69BD1-BF53-44E1-9877-F7FBC4220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E0989-4497-4134-B3DD-3102BB590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1775B-4E32-4EAB-811B-3A443E150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37691-5FA0-4C27-81EC-0AF029A06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F2422-E382-4A48-8B00-0892AA5D5F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A395A-651D-4079-B74E-C3618E4C47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CB1AF-771C-4694-8F84-2241AFAE24A9}"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rPr>
              <a:t>第十二章</a:t>
            </a:r>
            <a:r>
              <a:rPr b="1" lang="en-US" sz="3600" spc="-1" strike="noStrike">
                <a:solidFill>
                  <a:srgbClr val="ffffcc"/>
                </a:solidFill>
                <a:latin typeface="Times New Roman"/>
              </a:rPr>
              <a:t>  </a:t>
            </a:r>
            <a:r>
              <a:rPr b="1" lang="zh-CN" sz="3600" spc="-1" strike="noStrike">
                <a:solidFill>
                  <a:srgbClr val="ffffcc"/>
                </a:solidFill>
                <a:latin typeface="Times New Roman"/>
              </a:rPr>
              <a:t>保险公司经营效益评价</a:t>
            </a:r>
            <a:r>
              <a:rPr b="0" lang="zh-CN" sz="3600" spc="-1" strike="noStrike">
                <a:solidFill>
                  <a:srgbClr val="ffffcc"/>
                </a:solidFill>
                <a:latin typeface="Times New Roman"/>
              </a:rPr>
              <a:t></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经营稳健性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保险公司经营稳健性指标包括反映承保业务发展能力和承保业务质量的各项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承保业务发展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保费收入增长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保费收入增长率</a:t>
            </a:r>
            <a:r>
              <a:rPr b="1" lang="en-US"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本期累计保费收入</a:t>
            </a:r>
            <a:r>
              <a:rPr b="1" lang="en-US"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上年同期保费收入）</a:t>
            </a:r>
            <a:r>
              <a:rPr b="1" lang="zh-CN"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上年同期保费收入</a:t>
            </a:r>
            <a:r>
              <a:rPr b="1" lang="zh-CN" sz="3200" spc="-1" strike="noStrike">
                <a:solidFill>
                  <a:srgbClr val="ffffcc"/>
                </a:solidFill>
                <a:latin typeface="Times New Roman"/>
                <a:ea typeface="楷体_GB2312"/>
              </a:rPr>
              <a:t>×</a:t>
            </a:r>
            <a:r>
              <a:rPr b="1" lang="en-US" sz="3200" spc="-1" strike="noStrike">
                <a:solidFill>
                  <a:srgbClr val="ffffcc"/>
                </a:solidFill>
                <a:latin typeface="Times New Roman"/>
                <a:ea typeface="楷体_GB2312"/>
              </a:rPr>
              <a:t>100%</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市场占有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85800" y="333000"/>
            <a:ext cx="7772400" cy="5838840"/>
          </a:xfrm>
          <a:prstGeom prst="rect">
            <a:avLst/>
          </a:prstGeom>
          <a:noFill/>
          <a:ln w="0">
            <a:noFill/>
          </a:ln>
        </p:spPr>
        <p:txBody>
          <a:bodyPr lIns="92160" rIns="92160" tIns="46080" bIns="46080" anchor="t">
            <a:normAutofit fontScale="99000"/>
          </a:bodyPr>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寿险公司：</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标准保费增长率</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长期险保费增长率</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短期险保费增长率</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二）承保质量指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综合费用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综合成本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综合赔付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应收保费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退保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运营能力评价指标</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有资产经营现金流量回报率</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资产经营现金流与净利润的比率</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资产经营现金流与保费收入的比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偿债能力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偿付能力充足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流动比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速动比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资产负债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经营现金净流量对负债的比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财务稳定性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财务稳定性系数</a:t>
            </a:r>
            <a:r>
              <a:rPr b="1" lang="en-US" sz="3200" spc="-1" strike="noStrike">
                <a:solidFill>
                  <a:srgbClr val="ffffcc"/>
                </a:solidFill>
                <a:latin typeface="Times New Roman"/>
                <a:ea typeface="楷体_GB2312"/>
              </a:rPr>
              <a:t>K</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  保险公司经营成果评价</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85800" y="333000"/>
            <a:ext cx="7772400" cy="583884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盈利能力评价</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利润评价指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营业利润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资产收益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净资产收益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收入净利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成本费用利润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6.</a:t>
            </a:r>
            <a:r>
              <a:rPr b="1" lang="zh-CN" sz="3200" spc="-1" strike="noStrike">
                <a:solidFill>
                  <a:srgbClr val="ffffcc"/>
                </a:solidFill>
                <a:latin typeface="Times New Roman"/>
                <a:ea typeface="楷体_GB2312"/>
              </a:rPr>
              <a:t>资本金利润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7.</a:t>
            </a:r>
            <a:r>
              <a:rPr b="1" lang="zh-CN" sz="3200" spc="-1" strike="noStrike">
                <a:solidFill>
                  <a:srgbClr val="ffffcc"/>
                </a:solidFill>
                <a:latin typeface="Times New Roman"/>
                <a:ea typeface="楷体_GB2312"/>
              </a:rPr>
              <a:t>全员人均利润</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投资收益率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保险资金运用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投资收益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投资收入充足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内含价值和一年新业务价值</a:t>
            </a:r>
            <a:r>
              <a:rPr b="1" lang="en-US"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寿险公司）</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社会贡献能力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社会贡献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上缴积累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复习思考题</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分析寿险公司的三差损益。</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评价人寿保险公司经营稳健性有哪些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用哪些指标可以评价保险公司的偿债能力？</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如何评价和分析保险公司的盈利能力？</a:t>
            </a: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如何评价保险公司的社会贡献能力？</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一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寿险公司利源分析</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685440" y="2057400"/>
            <a:ext cx="81342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保险公司的利润总额由营业利润及营业外收入减营业外支出的差额两部分构成，利润总额的计算公式为：</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2500" spc="-1" strike="noStrike">
                <a:solidFill>
                  <a:srgbClr val="ffffcc"/>
                </a:solidFill>
                <a:latin typeface="楷体_GB2312"/>
                <a:ea typeface="楷体_GB2312"/>
              </a:rPr>
              <a:t>利润总额</a:t>
            </a:r>
            <a:r>
              <a:rPr b="1" lang="en-US" sz="2500" spc="-1" strike="noStrike">
                <a:solidFill>
                  <a:srgbClr val="ffffcc"/>
                </a:solidFill>
                <a:latin typeface="楷体_GB2312"/>
                <a:ea typeface="楷体_GB2312"/>
              </a:rPr>
              <a:t>=</a:t>
            </a:r>
            <a:r>
              <a:rPr b="1" lang="zh-CN" sz="2500" spc="-1" strike="noStrike">
                <a:solidFill>
                  <a:srgbClr val="ffffcc"/>
                </a:solidFill>
                <a:latin typeface="楷体_GB2312"/>
                <a:ea typeface="楷体_GB2312"/>
              </a:rPr>
              <a:t>营业利润</a:t>
            </a:r>
            <a:r>
              <a:rPr b="1" lang="en-US" sz="2500" spc="-1" strike="noStrike">
                <a:solidFill>
                  <a:srgbClr val="ffffcc"/>
                </a:solidFill>
                <a:latin typeface="楷体_GB2312"/>
                <a:ea typeface="楷体_GB2312"/>
              </a:rPr>
              <a:t>+</a:t>
            </a:r>
            <a:r>
              <a:rPr b="1" lang="zh-CN" sz="2500" spc="-1" strike="noStrike">
                <a:solidFill>
                  <a:srgbClr val="ffffcc"/>
                </a:solidFill>
                <a:latin typeface="楷体_GB2312"/>
                <a:ea typeface="楷体_GB2312"/>
              </a:rPr>
              <a:t>（营业外收入</a:t>
            </a:r>
            <a:r>
              <a:rPr b="1" lang="en-US" sz="2500" spc="-1" strike="noStrike">
                <a:solidFill>
                  <a:srgbClr val="ffffcc"/>
                </a:solidFill>
                <a:latin typeface="楷体_GB2312"/>
                <a:ea typeface="楷体_GB2312"/>
              </a:rPr>
              <a:t>-</a:t>
            </a:r>
            <a:r>
              <a:rPr b="1" lang="zh-CN" sz="2500" spc="-1" strike="noStrike">
                <a:solidFill>
                  <a:srgbClr val="ffffcc"/>
                </a:solidFill>
                <a:latin typeface="楷体_GB2312"/>
                <a:ea typeface="楷体_GB2312"/>
              </a:rPr>
              <a:t>营业外支出）</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寿险公司的利润来源于死差益、费差益、利差益、退保益等。</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死差益是由实际死亡率低于预定死亡率，按预定死亡率收取的纯保费支付实际死亡成本后有盈余而产生的利益。</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死差益</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预定死亡率</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实际死亡率）</a:t>
            </a:r>
            <a:r>
              <a:rPr b="1" lang="zh-CN"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风险保额</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费差益是实际的营业费用率低于预期的营业费用率而产生的利益。</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费差益</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预定费用率—实际费用率）</a:t>
            </a:r>
            <a:r>
              <a:rPr b="1" lang="zh-CN"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保险费</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利差益是实际的投资收益率高于预定的利率时产生的利益。</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利差益</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实际收益率—预定利率）</a:t>
            </a:r>
            <a:r>
              <a:rPr b="1" lang="zh-CN"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责任准备金总额</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退保益是指退保或失效保单的责任准备金与退保金之间的差额而产生的利益。</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在寿险公司的利润来源中，死差益是比较稳定的，费差益是保险公司可以控制的，退保益是必然产生的，惟有利差益受外部因素的影响较大，尤其随着寿险市场竞争的不断加剧，死差益、费差益基本上趋于零，而保险公司的利润来源主要就是利差益。</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4360" y="335772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经营状况评价</a:t>
            </a:r>
            <a:r>
              <a:rPr b="1"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6:34:52Z</dcterms:modified>
  <cp:revision>57</cp:revision>
  <dc:subject/>
  <dc:title>没有幻灯片标题</dc:title>
</cp:coreProperties>
</file>